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6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3.png" ContentType="image/png"/>
  <Override PartName="/ppt/media/image5.gif" ContentType="image/gif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242-9F6F-40A9-B783-B708DEB2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8C5-CBC6-4265-9E05-BEA2D909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507-C111-44AE-A291-18436B23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62D-8BA7-4C1B-BC93-95C799A3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CA1-D11D-4A9B-B7D2-B3F7DF7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A9E-5F4F-4EE4-83D3-6488BC0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837-C7CD-4B5F-AB8A-5C1AD80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A47-6ECA-46EE-91CE-AB65ADB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EA6-2302-4F2E-A750-B33FF65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AA9-CD14-4571-BCB2-3FFDB1A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43D-5200-46E5-AC75-FC5019C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A88-D495-4687-B3B4-1386935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8E3-ADBF-48FD-8FA7-BA2F25844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Павел Сергеевич\Desktop\vinog(3).jpg"/>
          <p:cNvPicPr/>
          <p:nvPr/>
        </p:nvPicPr>
        <p:blipFill>
          <a:blip r:embed="rId1"/>
          <a:stretch/>
        </p:blipFill>
        <p:spPr>
          <a:xfrm>
            <a:off x="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иетологи утверждают – несмотря на то, что ягоды богаты глюкозой, от них не полнеют, т.к. в кисти винограда весом 100 граммов всего около 60 кк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800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20574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Я и жёлтый, я и бел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Я и чёрный - если спел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И под солнышком в с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На лиане я рас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И такой я сочный, слад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Очень вкусный, аромат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Гроздь мою съесть каждый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И зовусь я (виноград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Павел Сергеевич\Desktop\vinog14.jpg"/>
          <p:cNvPicPr/>
          <p:nvPr/>
        </p:nvPicPr>
        <p:blipFill>
          <a:blip r:embed="rId1"/>
          <a:srcRect l="0" t="48898" r="0" b="33339"/>
          <a:stretch/>
        </p:blipFill>
        <p:spPr>
          <a:xfrm>
            <a:off x="609480" y="0"/>
            <a:ext cx="77724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Павел Сергеевич\Desktop\37960314.gif"/>
          <p:cNvPicPr/>
          <p:nvPr/>
        </p:nvPicPr>
        <p:blipFill>
          <a:blip r:embed="rId2"/>
          <a:stretch/>
        </p:blipFill>
        <p:spPr>
          <a:xfrm>
            <a:off x="4724280" y="1066680"/>
            <a:ext cx="4214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Павел Сергеевич\Desktop\vinog(3).jpg"/>
          <p:cNvPicPr/>
          <p:nvPr/>
        </p:nvPicPr>
        <p:blipFill>
          <a:blip r:embed="rId1"/>
          <a:stretch/>
        </p:blipFill>
        <p:spPr>
          <a:xfrm>
            <a:off x="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837720"/>
            <a:ext cx="51055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е стану я жалеть о роз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Увядших с легкою вес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не мил и виноград на лоз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кистях созревший под гор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Краса моей долины злач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трада осени злат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одолговатый и прозрач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Как персты девы мол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224320" y="1036800"/>
            <a:ext cx="36086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37200" y="0"/>
            <a:ext cx="4906800" cy="662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-360" y="380880"/>
            <a:ext cx="4724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Нет ни одного великого поэта, который не воспел бы в своих стихах дивной красоты и вкуса ягоды винограда. Гомер, Гораций, Омар Хайям, Петрарка, Гёте, Байрон, Пушкин — у каждого из них не одно произведение, посвященное винограду и его чудесному соку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Павел Сергеевич\Desktop\411616267.jpg"/>
          <p:cNvPicPr/>
          <p:nvPr/>
        </p:nvPicPr>
        <p:blipFill>
          <a:blip r:embed="rId1"/>
          <a:stretch/>
        </p:blipFill>
        <p:spPr>
          <a:xfrm>
            <a:off x="2514600" y="957240"/>
            <a:ext cx="8305920" cy="590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Леген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1240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«Появился виноград на Земле очень и очень давно. Матерью его была Земля, отцом – Сол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C:\Users\Павел Сергеевич\Desktop\solna24.gif"/>
          <p:cNvPicPr/>
          <p:nvPr/>
        </p:nvPicPr>
        <p:blipFill>
          <a:blip r:embed="rId2"/>
          <a:stretch/>
        </p:blipFill>
        <p:spPr>
          <a:xfrm>
            <a:off x="228600" y="0"/>
            <a:ext cx="3505320" cy="363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Павел Сергеевич\Desktop\37960314.gif"/>
          <p:cNvPicPr/>
          <p:nvPr/>
        </p:nvPicPr>
        <p:blipFill>
          <a:blip r:embed="rId3"/>
          <a:stretch/>
        </p:blipFill>
        <p:spPr>
          <a:xfrm>
            <a:off x="3124080" y="2362320"/>
            <a:ext cx="128592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Павел Сергеевич\Desktop\37960314.gif"/>
          <p:cNvPicPr/>
          <p:nvPr/>
        </p:nvPicPr>
        <p:blipFill>
          <a:blip r:embed="rId4"/>
          <a:stretch/>
        </p:blipFill>
        <p:spPr>
          <a:xfrm rot="19709400">
            <a:off x="3616200" y="4044600"/>
            <a:ext cx="128592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Павел Сергеевич\Desktop\37960314.gif"/>
          <p:cNvPicPr/>
          <p:nvPr/>
        </p:nvPicPr>
        <p:blipFill>
          <a:blip r:embed="rId5"/>
          <a:stretch/>
        </p:blipFill>
        <p:spPr>
          <a:xfrm rot="2023800">
            <a:off x="4082760" y="927000"/>
            <a:ext cx="128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240" y="38088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Наиболее старая легенда о винограде — это легенда о Ное и его ковчеге. Пристав к горе Арарат, Ной обратил внимание на красивые, напитанные солнцем гроздья, сорвал одну ягодку, попробовал ее и понял, что это очень вкусно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Павел Сергеевич\Desktop\8178add01_jpg_300x100000_q85.jpg"/>
          <p:cNvPicPr/>
          <p:nvPr/>
        </p:nvPicPr>
        <p:blipFill>
          <a:blip r:embed="rId1"/>
          <a:stretch/>
        </p:blipFill>
        <p:spPr>
          <a:xfrm>
            <a:off x="4952880" y="457200"/>
            <a:ext cx="393084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Павел Сергеевич\Desktop\na_2031.jpg"/>
          <p:cNvPicPr/>
          <p:nvPr/>
        </p:nvPicPr>
        <p:blipFill>
          <a:blip r:embed="rId2"/>
          <a:stretch/>
        </p:blipFill>
        <p:spPr>
          <a:xfrm>
            <a:off x="4952880" y="3429000"/>
            <a:ext cx="401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иноград - Символ мудрост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48640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2280" y="106668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t-Nouveau 1910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t-Nouveau 1910"/>
              </a:rPr>
              <a:t>Гроздь винограда - атрибут божеств плодородия и сель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t-Nouveau 1910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t-Nouveau 1910"/>
              </a:rPr>
              <a:t>хозяй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Павел Сергеевич\Desktop\50538283_50473649_080cf551a0d2228d6cb4cf98c81.gif"/>
          <p:cNvPicPr/>
          <p:nvPr/>
        </p:nvPicPr>
        <p:blipFill>
          <a:blip r:embed="rId1"/>
          <a:stretch/>
        </p:blipFill>
        <p:spPr>
          <a:xfrm>
            <a:off x="3962520" y="93600"/>
            <a:ext cx="4876560" cy="676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6576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114800" y="151920"/>
            <a:ext cx="50292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Виноград заслуженно пользуется славой целебного, высокопитательного продукта. В плодах винограда содержатся сахар, клетчатка, органические кислоты, аскорбиновая кислота, витамин В, пектиновые вещества, микроэлементы, ферменты. Виноград - хороший источник кал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533520"/>
            <a:ext cx="4038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Ягоды в кулинарии используются в целом виде в салатах и закусках, в супах, блюдах с мясом и рыбой. Так же используется высушенный, виноград (изю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1332" t="0" r="7332" b="5657"/>
          <a:stretch/>
        </p:blipFill>
        <p:spPr>
          <a:xfrm>
            <a:off x="4267080" y="1066680"/>
            <a:ext cx="4648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3:13:19Z</dcterms:created>
  <dc:creator>Павел Сергеевич</dc:creator>
  <dc:description/>
  <dc:language>en-US</dc:language>
  <cp:lastModifiedBy>Павел Сергеевич</cp:lastModifiedBy>
  <dcterms:modified xsi:type="dcterms:W3CDTF">2010-10-17T05:04:49Z</dcterms:modified>
  <cp:revision>12</cp:revision>
  <dc:subject/>
  <dc:title>Слайд 1</dc:title>
</cp:coreProperties>
</file>