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BC7-3ADC-46AF-88DE-43C8933D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BEE-D03C-4607-8975-013E5E37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F31-07EF-460B-8DB1-86CC5276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36A-AE04-4F97-8DF5-D08BD54B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E6B-2760-48DE-A8B5-12FF4CB7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8CB-3724-4998-B408-DBF3C1B4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F0D-DB48-41F6-8FDC-70FDADDB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238-0C5D-4AA6-9040-33E7DFBC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0AC-F22A-4B53-82C4-CA1013E9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A2B-0D95-45C1-BD47-04785769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025-1B16-4E21-A79B-9B5106B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A1D-6856-499C-9736-9801F6C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00E8-ADAE-44DF-B0C8-A6F1996AE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lass-fizika.narod.ru/8_22.htm" TargetMode="External"/><Relationship Id="rId2" Type="http://schemas.openxmlformats.org/officeDocument/2006/relationships/hyperlink" Target="http://gifzona.com/i/masters/vnmoh/03.gif" TargetMode="External"/><Relationship Id="rId3" Type="http://schemas.openxmlformats.org/officeDocument/2006/relationships/hyperlink" Target="http://ru.wikipedia.org/wiki/&#1060;&#1072;&#1088;&#1072;&#1076;&#1077;&#1081;_&#1052;" TargetMode="External"/><Relationship Id="rId4" Type="http://schemas.openxmlformats.org/officeDocument/2006/relationships/hyperlink" Target="http://ru.wikipedia.org/wiki/&#1060;&#1072;&#1088;&#1072;&#1076;&#1077;&#1081;_&#1052;" TargetMode="External"/><Relationship Id="rId5" Type="http://schemas.openxmlformats.org/officeDocument/2006/relationships/hyperlink" Target="http://ru.wikipedia.org/wiki/&#1052;&#1072;&#1082;&#1089;&#1074;&#1077;&#1083;&#1083;_&#1044;" TargetMode="External"/><Relationship Id="rId6" Type="http://schemas.openxmlformats.org/officeDocument/2006/relationships/hyperlink" Target="http://ru.wikipedia.org/wiki/&#1052;&#1072;&#1082;&#1089;&#1074;&#1077;&#1083;&#1083;_&#1044;" TargetMode="External"/><Relationship Id="rId7" Type="http://schemas.openxmlformats.org/officeDocument/2006/relationships/hyperlink" Target="http://ru.wikipedia.org/wiki/&#1069;&#1083;&#1077;&#1082;&#1090;&#1088;&#1080;&#1095;&#1077;&#1089;&#1082;&#1086;&#1077;_&#1087;&#1086;&#1083;&#1077;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320" y="57909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итель Ромненской сош Русина Г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285840"/>
            <a:ext cx="9051840" cy="181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 кошку не гладь, все искры лет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, поглаживая кошку, мы можем наблюдать искр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Павел Сергеевич\Desktop\03.gif"/>
          <p:cNvPicPr/>
          <p:nvPr/>
        </p:nvPicPr>
        <p:blipFill>
          <a:blip r:embed="rId1"/>
          <a:stretch/>
        </p:blipFill>
        <p:spPr>
          <a:xfrm>
            <a:off x="1143000" y="2286000"/>
            <a:ext cx="5448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Слово электричество произошло от слова электр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отереть тело о шерсть -это значит наэлектризовать 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В природе существует много родов заря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Заряды одного знака притяги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Положительный и отрицательный заряды отталки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Электроскоп это прибор для измерения электрического заря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Действие электроскопа основано на взаимодействии зарядов одного зн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Разрядить заряженное тело можно прикоснувшись к нему ру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Вода является хорошим проводником электрического заря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 Изолятор - тело не содержащее внутри свободные электрические заря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Все изоляторы изготовляют из непровод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2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6"/>
          <p:cNvSpPr/>
          <p:nvPr/>
        </p:nvSpPr>
        <p:spPr>
          <a:xfrm>
            <a:off x="1295280" y="5791320"/>
            <a:ext cx="1828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8"/>
          <p:cNvSpPr/>
          <p:nvPr/>
        </p:nvSpPr>
        <p:spPr>
          <a:xfrm flipH="1">
            <a:off x="1600200" y="5791320"/>
            <a:ext cx="533520" cy="53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2209680" y="5791320"/>
            <a:ext cx="533520" cy="60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1371600" y="63244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2"/>
          <p:cNvSpPr/>
          <p:nvPr/>
        </p:nvSpPr>
        <p:spPr>
          <a:xfrm>
            <a:off x="2666880" y="63244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люс 13"/>
          <p:cNvSpPr/>
          <p:nvPr/>
        </p:nvSpPr>
        <p:spPr>
          <a:xfrm>
            <a:off x="1371600" y="6324480"/>
            <a:ext cx="304920" cy="3049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люс 14"/>
          <p:cNvSpPr/>
          <p:nvPr/>
        </p:nvSpPr>
        <p:spPr>
          <a:xfrm>
            <a:off x="2666880" y="6324480"/>
            <a:ext cx="304920" cy="3049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324480" y="6095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ю  или  не ве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4" descr=""/>
          <p:cNvPicPr/>
          <p:nvPr/>
        </p:nvPicPr>
        <p:blipFill>
          <a:blip r:embed="rId1"/>
          <a:stretch/>
        </p:blipFill>
        <p:spPr>
          <a:xfrm>
            <a:off x="841320" y="208080"/>
            <a:ext cx="7553520" cy="1773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304920" y="1447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странстве вокруг электрического заряда суще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лектрическое пол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04920" y="259092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Электрическое пол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особый вид материи, существующий вокруг тел или частиц, обладающих электрическим заря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Св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ическое поле непосредственно невидим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людается благодаря  силовому воздействию на заряженные т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лабевает с расстоя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ическое поле матери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2" descr=""/>
          <p:cNvPicPr/>
          <p:nvPr/>
        </p:nvPicPr>
        <p:blipFill>
          <a:blip r:embed="rId1"/>
          <a:stretch/>
        </p:blipFill>
        <p:spPr>
          <a:xfrm>
            <a:off x="219240" y="298440"/>
            <a:ext cx="8785080" cy="1049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28600" y="1143000"/>
            <a:ext cx="533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ого, чтобы создать электрическое поле, необходимо создать электрический заряд. Натрите какой-нибудь диэлектрик о шерсть или что-нибудь подобное, например, пластиковую ручку о собственные чистые волосы. На ручке создастся заряд, а вокруг — электрическое поле. Заряженная ручка будет притягивать к себе мелкие обрывки бумаги. Если натирать о шерсть предмет большей ширины, например, резиновую ленту, то в темноте можно будет видеть мелкие искры, возникающие вследствие электрических раз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ическое поле часто возникает возле телевизионного экрана при включении или выключении телеприёмника. Это поле можно почувствовать по его действию на волоски на руках или л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3171960" cy="476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rcRect l="17427" t="0" r="16821" b="0"/>
          <a:stretch/>
        </p:blipFill>
        <p:spPr>
          <a:xfrm>
            <a:off x="5391000" y="1219320"/>
            <a:ext cx="3753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ространстве вокруг электрического заряда существует </a:t>
            </a:r>
            <a:r>
              <a:rPr b="0" i="1" lang="ru-RU" sz="2700" spc="-1" strike="noStrike">
                <a:solidFill>
                  <a:srgbClr val="ff0000"/>
                </a:solidFill>
                <a:latin typeface="Calibri"/>
              </a:rPr>
              <a:t>электрическое пол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лектрическое поле можно изобразить графически с помощью силовых линий электрического поля, которые имеют направле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66680" y="3505320"/>
            <a:ext cx="2060640" cy="21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791320" y="3352680"/>
            <a:ext cx="2247840" cy="2344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533520" y="57150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ическое п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ожительного зар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486400" y="5867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ическое п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рицательного за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8" descr=""/>
          <p:cNvPicPr/>
          <p:nvPr/>
        </p:nvPicPr>
        <p:blipFill>
          <a:blip r:embed="rId3"/>
          <a:stretch/>
        </p:blipFill>
        <p:spPr>
          <a:xfrm>
            <a:off x="993600" y="360360"/>
            <a:ext cx="7553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371016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762120" y="51055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йкл Фар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791- 1867г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глийский фи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876920" y="52578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жеймс Клерк Максве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831-7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глийский фи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9780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304920" y="53352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ическое поле заряда действует с некоторой силой F эл на всякий другой заряд, помещенный в поле данного за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815080" y="457200"/>
            <a:ext cx="2862360" cy="1981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304920" y="25146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ла с которой электрическое поле действует на внесенный в него заряд, называется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электрической сило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на направлена всегда вдоль силовых линий электрического поля. Действие электрического поля зависит от расстояния, чем меньше расстояние до заряда, образующего поле, тем сильней действие п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312732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4038480" y="5257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выглядит электрическое поле двух разноименных заря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lass-fizika.narod.ru/8_22.ht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ifzona.com/i/masters/vnmoh/03.gi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.wikipedia.org/wiki/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Фарадей_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ru.wikipedia.org/wiki/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аксвелл_Д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лектрическое_пол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fotki.yandex.ru/users/vasya-mk/view/74270/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podarokcard.ru/katalog/detyam/poznaem-mir/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fizika-vnutri-nas.narod.ru/electrodynamics/static_charge.htm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4:34:13Z</dcterms:created>
  <dc:creator>Павел Сергеевич</dc:creator>
  <dc:description/>
  <dc:language>en-US</dc:language>
  <cp:lastModifiedBy>Павел Сергеевич</cp:lastModifiedBy>
  <dcterms:modified xsi:type="dcterms:W3CDTF">2010-12-12T13:41:16Z</dcterms:modified>
  <cp:revision>13</cp:revision>
  <dc:subject/>
  <dc:title>Слайд 1</dc:title>
</cp:coreProperties>
</file>